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51A6-BF85-486B-8DF5-79B8FB4B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8B06-CB80-4518-9CC8-3F4C47C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2999-1B0F-4F47-A5D3-BEA8A627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4FA5-D58B-4F91-8F9C-ADB98CC0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E044-826F-4E14-89B3-9BEABF00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C7B-E107-45C0-B56C-52FA7F1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B4C-97FB-414E-A730-6C16A42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06C-C169-4007-BEEA-C796E933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52A1-DDA3-465B-8942-52FB48D7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D414-977B-4177-86B5-C883E9B8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7A7-0BBC-4A42-84B6-946DD09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E68-01D5-448F-A86C-9D936FD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9987-7D4C-463D-AF7F-E6FED45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B487-26A2-49FD-B60E-2E9848D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9935-C287-4F93-9E5C-01B6FA2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3DF2-9116-41E0-B44F-35D637FC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882-3200-487A-9C39-4C1DE1D1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D5C5-B82F-4613-B269-C70BB8C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564A-6444-4294-A96C-257084E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459B-AC4E-477B-ADC0-D3CDE88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A0AE-AB31-466C-B561-425A316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BE7E-9CFF-47FB-906E-34FE5B5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F0F4-18E7-4316-80E5-9C9B1E40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19F2-3E18-44C4-B5F0-34BC0C9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B7BC-FC0B-471D-AEAE-59556288B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2D0-F87C-4BA3-8DA1-8F8848A740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C Electricity &amp; Capacitor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EA AS3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Chapters 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7952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473040" y="1571760"/>
            <a:ext cx="3950640" cy="3623760"/>
            <a:chOff x="473040" y="1571760"/>
            <a:chExt cx="3950640" cy="3623760"/>
          </a:xfrm>
        </p:grpSpPr>
        <p:sp>
          <p:nvSpPr>
            <p:cNvPr id="758" name=""/>
            <p:cNvSpPr/>
            <p:nvPr/>
          </p:nvSpPr>
          <p:spPr>
            <a:xfrm flipH="1" rot="16200000">
              <a:off x="2833560" y="1827720"/>
              <a:ext cx="510840" cy="1122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33400" y="1876320"/>
              <a:ext cx="0" cy="947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52680" y="2089080"/>
              <a:ext cx="0" cy="51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39240" y="2400120"/>
              <a:ext cx="78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731960" y="2378160"/>
              <a:ext cx="78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88400" y="237816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 rot="16200000">
              <a:off x="943920" y="2280600"/>
              <a:ext cx="166320" cy="20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 rot="16200000">
              <a:off x="4125960" y="2306880"/>
              <a:ext cx="164880" cy="20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76280" y="1601640"/>
              <a:ext cx="2421000" cy="1463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473040" y="3343320"/>
              <a:ext cx="592200" cy="591480"/>
              <a:chOff x="473040" y="3343320"/>
              <a:chExt cx="592200" cy="591480"/>
            </a:xfrm>
          </p:grpSpPr>
          <p:sp>
            <p:nvSpPr>
              <p:cNvPr id="768" name=""/>
              <p:cNvSpPr/>
              <p:nvPr/>
            </p:nvSpPr>
            <p:spPr>
              <a:xfrm>
                <a:off x="473040" y="3343320"/>
                <a:ext cx="592200" cy="5914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7560" y="3428640"/>
                <a:ext cx="4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271600" y="3270240"/>
              <a:ext cx="592200" cy="591840"/>
              <a:chOff x="2271600" y="3270240"/>
              <a:chExt cx="592200" cy="591840"/>
            </a:xfrm>
          </p:grpSpPr>
          <p:sp>
            <p:nvSpPr>
              <p:cNvPr id="771" name=""/>
              <p:cNvSpPr/>
              <p:nvPr/>
            </p:nvSpPr>
            <p:spPr>
              <a:xfrm>
                <a:off x="2271600" y="3270240"/>
                <a:ext cx="592200" cy="59184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346120" y="3355560"/>
                <a:ext cx="4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774720" y="2376360"/>
              <a:ext cx="0" cy="97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2400" y="3936960"/>
              <a:ext cx="0" cy="73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27120" y="4419360"/>
              <a:ext cx="1700280" cy="4838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752480" y="4206960"/>
              <a:ext cx="1108080" cy="98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1240" y="4668840"/>
              <a:ext cx="78588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08560" y="2398680"/>
              <a:ext cx="1440" cy="226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216240" y="466884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51200" y="3592440"/>
              <a:ext cx="1095120" cy="1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936960" y="2396880"/>
              <a:ext cx="9360" cy="119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68280" y="2376360"/>
              <a:ext cx="0" cy="118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58920" y="3560760"/>
              <a:ext cx="100008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46040" y="15717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M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4360" y="22161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176800" y="1247760"/>
            <a:ext cx="3580920" cy="3983040"/>
            <a:chOff x="5176800" y="1247760"/>
            <a:chExt cx="3580920" cy="3983040"/>
          </a:xfrm>
        </p:grpSpPr>
        <p:sp>
          <p:nvSpPr>
            <p:cNvPr id="787" name=""/>
            <p:cNvSpPr/>
            <p:nvPr/>
          </p:nvSpPr>
          <p:spPr>
            <a:xfrm>
              <a:off x="5776560" y="4754520"/>
              <a:ext cx="29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805360" y="1835280"/>
              <a:ext cx="0" cy="29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10040" y="2722680"/>
              <a:ext cx="267768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64320" y="4862520"/>
              <a:ext cx="11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(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2680" y="1247760"/>
              <a:ext cx="14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78560" y="27972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76800" y="251784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M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447920" y="5237280"/>
                <a:ext cx="6095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M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anometer – very sensitive meter that can be adapted to read either current or vol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know 2 things about the galv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al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that causes full scale deflection of the needle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.s.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voltmeter the galvanometer must be connected in series with a large resistor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12840" y="3467160"/>
            <a:ext cx="7433280" cy="2882880"/>
            <a:chOff x="312840" y="3467160"/>
            <a:chExt cx="7433280" cy="2882880"/>
          </a:xfrm>
        </p:grpSpPr>
        <p:grpSp>
          <p:nvGrpSpPr>
            <p:cNvPr id="800" name=""/>
            <p:cNvGrpSpPr/>
            <p:nvPr/>
          </p:nvGrpSpPr>
          <p:grpSpPr>
            <a:xfrm>
              <a:off x="1355760" y="3467160"/>
              <a:ext cx="6390360" cy="2277360"/>
              <a:chOff x="1355760" y="3467160"/>
              <a:chExt cx="6390360" cy="2277360"/>
            </a:xfrm>
          </p:grpSpPr>
          <p:sp>
            <p:nvSpPr>
              <p:cNvPr id="801" name=""/>
              <p:cNvSpPr/>
              <p:nvPr/>
            </p:nvSpPr>
            <p:spPr>
              <a:xfrm>
                <a:off x="3595680" y="4844520"/>
                <a:ext cx="900000" cy="9000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04400" y="4981680"/>
                <a:ext cx="668520" cy="61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772800" y="4967640"/>
                <a:ext cx="573840" cy="66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355760" y="5321880"/>
                <a:ext cx="223992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4483800" y="5324040"/>
                <a:ext cx="3262320" cy="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2640960" y="3658320"/>
                <a:ext cx="819000" cy="790920"/>
                <a:chOff x="2640960" y="3658320"/>
                <a:chExt cx="819000" cy="7909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2640960" y="3658320"/>
                  <a:ext cx="791280" cy="79092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803680" y="3769200"/>
                  <a:ext cx="65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 rot="16200000">
                <a:off x="3866400" y="3715560"/>
                <a:ext cx="313920" cy="73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15520" y="3726720"/>
                <a:ext cx="1514520" cy="6544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2203920" y="4081320"/>
                <a:ext cx="0" cy="124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203920" y="4081320"/>
                <a:ext cx="448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418200" y="4067280"/>
                <a:ext cx="21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386960" y="4081320"/>
                <a:ext cx="640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30040" y="4052880"/>
                <a:ext cx="40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24960" y="4051080"/>
                <a:ext cx="0" cy="128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5760" y="3738600"/>
                <a:ext cx="1051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72800" y="3835440"/>
                <a:ext cx="53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461320" y="3467160"/>
                <a:ext cx="2239920" cy="120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312840" y="3732120"/>
              <a:ext cx="170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mall current passes through 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30280" y="4173480"/>
              <a:ext cx="774720" cy="5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33560" y="5981760"/>
              <a:ext cx="47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st current continues through circu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259000" y="5335560"/>
              <a:ext cx="63504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788976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Need to measure up to 10V with a  meter that has 20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 internal resistance and a full scale deflection at 5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=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V= 0.005A x (200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1800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87440" y="3929040"/>
            <a:ext cx="6391080" cy="2646360"/>
            <a:chOff x="1387440" y="3929040"/>
            <a:chExt cx="6391080" cy="2646360"/>
          </a:xfrm>
        </p:grpSpPr>
        <p:sp>
          <p:nvSpPr>
            <p:cNvPr id="827" name=""/>
            <p:cNvSpPr/>
            <p:nvPr/>
          </p:nvSpPr>
          <p:spPr>
            <a:xfrm>
              <a:off x="3627360" y="5306760"/>
              <a:ext cx="900000" cy="9003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35360" y="5443560"/>
              <a:ext cx="669960" cy="61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805200" y="5429160"/>
              <a:ext cx="573120" cy="66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387440" y="5784840"/>
              <a:ext cx="2239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4514760" y="5785920"/>
              <a:ext cx="326376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73360" y="4120920"/>
              <a:ext cx="790560" cy="790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36800" y="423216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6200000">
              <a:off x="3898080" y="4177080"/>
              <a:ext cx="314280" cy="7347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46480" y="4189320"/>
              <a:ext cx="1516320" cy="654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235240" y="4542840"/>
              <a:ext cx="0" cy="124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35240" y="4543200"/>
              <a:ext cx="44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9520" y="452916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19360" y="4543200"/>
              <a:ext cx="640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62800" y="4514760"/>
              <a:ext cx="40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56280" y="4513320"/>
              <a:ext cx="0" cy="12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48160" y="4200480"/>
              <a:ext cx="1050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74880" y="436248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93720" y="3929040"/>
              <a:ext cx="2240280" cy="120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63800" y="6207120"/>
              <a:ext cx="11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51000" y="5238720"/>
              <a:ext cx="160200" cy="16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19120" y="501156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n ammeter the galvanometer must be connected in parallel with a very small resistor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560600" y="3067200"/>
            <a:ext cx="6330960" cy="3250440"/>
            <a:chOff x="1560600" y="3067200"/>
            <a:chExt cx="6330960" cy="3250440"/>
          </a:xfrm>
        </p:grpSpPr>
        <p:sp>
          <p:nvSpPr>
            <p:cNvPr id="851" name=""/>
            <p:cNvSpPr/>
            <p:nvPr/>
          </p:nvSpPr>
          <p:spPr>
            <a:xfrm>
              <a:off x="5826240" y="3067200"/>
              <a:ext cx="20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mall current passes through 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1560600" y="3325680"/>
              <a:ext cx="4775040" cy="2991960"/>
              <a:chOff x="1560600" y="3325680"/>
              <a:chExt cx="4775040" cy="2991960"/>
            </a:xfrm>
          </p:grpSpPr>
          <p:sp>
            <p:nvSpPr>
              <p:cNvPr id="853" name=""/>
              <p:cNvSpPr/>
              <p:nvPr/>
            </p:nvSpPr>
            <p:spPr>
              <a:xfrm flipH="1">
                <a:off x="1560600" y="5312880"/>
                <a:ext cx="223992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568760" y="5336280"/>
                <a:ext cx="1629000" cy="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2846520" y="3648960"/>
                <a:ext cx="818640" cy="789840"/>
                <a:chOff x="2846520" y="3648960"/>
                <a:chExt cx="818640" cy="7898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2846520" y="3648960"/>
                  <a:ext cx="790560" cy="78984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009240" y="3759480"/>
                  <a:ext cx="65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rot="16200000">
                <a:off x="4071240" y="3705120"/>
                <a:ext cx="313920" cy="73476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024360" y="4965120"/>
                <a:ext cx="1515960" cy="65376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408400" y="4071240"/>
                <a:ext cx="0" cy="124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08400" y="4071240"/>
                <a:ext cx="44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680" y="4057200"/>
                <a:ext cx="21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592520" y="4071240"/>
                <a:ext cx="640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246640" y="4073040"/>
                <a:ext cx="0" cy="128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03800" y="5039640"/>
                <a:ext cx="105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978360" y="3825360"/>
                <a:ext cx="53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66880" y="3457080"/>
                <a:ext cx="2240280" cy="1199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87640" y="5949360"/>
                <a:ext cx="42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ost current continues through circui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2389320" y="5313960"/>
                <a:ext cx="353880" cy="66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5024520" y="3325680"/>
                <a:ext cx="752400" cy="72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1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" y="1181160"/>
            <a:ext cx="7889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Need to measure up to 1A with a  meter that has 20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 internal resistance and a full scale deflection at 5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 (across meter) =IR = 0.005 x 200 = 1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ent through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1A - 0.005A = 0.99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V/I = 1V / 0.995A = 1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968480" y="4178160"/>
            <a:ext cx="4637160" cy="2162160"/>
            <a:chOff x="1968480" y="4178160"/>
            <a:chExt cx="4637160" cy="2162160"/>
          </a:xfrm>
        </p:grpSpPr>
        <p:sp>
          <p:nvSpPr>
            <p:cNvPr id="874" name=""/>
            <p:cNvSpPr/>
            <p:nvPr/>
          </p:nvSpPr>
          <p:spPr>
            <a:xfrm flipH="1">
              <a:off x="1968480" y="6033960"/>
              <a:ext cx="2239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76640" y="6057360"/>
              <a:ext cx="162900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254400" y="4370400"/>
              <a:ext cx="818640" cy="790200"/>
              <a:chOff x="3254400" y="4370400"/>
              <a:chExt cx="818640" cy="790200"/>
            </a:xfrm>
          </p:grpSpPr>
          <p:sp>
            <p:nvSpPr>
              <p:cNvPr id="877" name=""/>
              <p:cNvSpPr/>
              <p:nvPr/>
            </p:nvSpPr>
            <p:spPr>
              <a:xfrm>
                <a:off x="3254400" y="4370400"/>
                <a:ext cx="790560" cy="7902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17120" y="448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 rot="16200000">
              <a:off x="4478760" y="4426200"/>
              <a:ext cx="314280" cy="735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32240" y="5686560"/>
              <a:ext cx="1515960" cy="6537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816280" y="4792680"/>
              <a:ext cx="0" cy="124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6280" y="4792680"/>
              <a:ext cx="44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030560" y="477828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00400" y="4792680"/>
              <a:ext cx="63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54520" y="4794120"/>
              <a:ext cx="0" cy="12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11320" y="5761080"/>
              <a:ext cx="105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67080" y="4591080"/>
              <a:ext cx="81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74760" y="4178160"/>
              <a:ext cx="2239920" cy="120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19440" y="5506920"/>
              <a:ext cx="193680" cy="193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68480" y="541188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66880" y="274320"/>
            <a:ext cx="620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5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pacitor is a device that can store electric charge and release it later 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nsist of two metal plates, separated by an insulating material call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electr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ors are us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ing circuits eg ra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ing circuits eg camera fl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alternating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4"/>
          <a:stretch/>
        </p:blipFill>
        <p:spPr>
          <a:xfrm>
            <a:off x="507960" y="138240"/>
            <a:ext cx="1459080" cy="1458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5"/>
          <a:stretch/>
        </p:blipFill>
        <p:spPr>
          <a:xfrm>
            <a:off x="6365880" y="3772080"/>
            <a:ext cx="2451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61680" y="2104920"/>
            <a:ext cx="81579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everal types of capaci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839880" y="3386160"/>
          <a:ext cx="7072200" cy="2684160"/>
        </p:xfrm>
        <a:graphic>
          <a:graphicData uri="http://schemas.openxmlformats.org/drawingml/2006/table">
            <a:tbl>
              <a:tblPr/>
              <a:tblGrid>
                <a:gridCol w="3516120"/>
                <a:gridCol w="355608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po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oly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8" name=""/>
          <p:cNvGrpSpPr/>
          <p:nvPr/>
        </p:nvGrpSpPr>
        <p:grpSpPr>
          <a:xfrm>
            <a:off x="5025960" y="3494160"/>
            <a:ext cx="2074680" cy="647640"/>
            <a:chOff x="5025960" y="3494160"/>
            <a:chExt cx="2074680" cy="647640"/>
          </a:xfrm>
        </p:grpSpPr>
        <p:sp>
          <p:nvSpPr>
            <p:cNvPr id="899" name=""/>
            <p:cNvSpPr/>
            <p:nvPr/>
          </p:nvSpPr>
          <p:spPr>
            <a:xfrm>
              <a:off x="5960880" y="3494160"/>
              <a:ext cx="0" cy="646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7160" y="3495600"/>
              <a:ext cx="0" cy="646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65720" y="382752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5960" y="381960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025960" y="4378320"/>
            <a:ext cx="2074680" cy="658800"/>
            <a:chOff x="5025960" y="4378320"/>
            <a:chExt cx="2074680" cy="658800"/>
          </a:xfrm>
        </p:grpSpPr>
        <p:grpSp>
          <p:nvGrpSpPr>
            <p:cNvPr id="904" name=""/>
            <p:cNvGrpSpPr/>
            <p:nvPr/>
          </p:nvGrpSpPr>
          <p:grpSpPr>
            <a:xfrm>
              <a:off x="5025960" y="4389480"/>
              <a:ext cx="2074680" cy="647640"/>
              <a:chOff x="5025960" y="4389480"/>
              <a:chExt cx="2074680" cy="647640"/>
            </a:xfrm>
          </p:grpSpPr>
          <p:sp>
            <p:nvSpPr>
              <p:cNvPr id="905" name=""/>
              <p:cNvSpPr/>
              <p:nvPr/>
            </p:nvSpPr>
            <p:spPr>
              <a:xfrm>
                <a:off x="5960880" y="438948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67160" y="439092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165720" y="472284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25960" y="471492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5531040" y="4475160"/>
              <a:ext cx="225360" cy="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50040" y="4476600"/>
              <a:ext cx="22536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445440" y="4378320"/>
              <a:ext cx="936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056200" y="5322960"/>
            <a:ext cx="2074680" cy="647640"/>
            <a:chOff x="5056200" y="5322960"/>
            <a:chExt cx="2074680" cy="647640"/>
          </a:xfrm>
        </p:grpSpPr>
        <p:grpSp>
          <p:nvGrpSpPr>
            <p:cNvPr id="913" name=""/>
            <p:cNvGrpSpPr/>
            <p:nvPr/>
          </p:nvGrpSpPr>
          <p:grpSpPr>
            <a:xfrm>
              <a:off x="5056200" y="5322960"/>
              <a:ext cx="2074680" cy="647640"/>
              <a:chOff x="5056200" y="5322960"/>
              <a:chExt cx="2074680" cy="647640"/>
            </a:xfrm>
          </p:grpSpPr>
          <p:sp>
            <p:nvSpPr>
              <p:cNvPr id="914" name=""/>
              <p:cNvSpPr/>
              <p:nvPr/>
            </p:nvSpPr>
            <p:spPr>
              <a:xfrm>
                <a:off x="5991120" y="532296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197400" y="532440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95960" y="565632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56200" y="564840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 flipV="1">
              <a:off x="5743440" y="5387760"/>
              <a:ext cx="729720" cy="50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6294600" y="301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3"/>
          <a:stretch/>
        </p:blipFill>
        <p:spPr>
          <a:xfrm>
            <a:off x="1217520" y="458640"/>
            <a:ext cx="171936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222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ors are charged by connecting them to a power supply or bat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uses an accumulation of electrons on one plate (negative) and removal of an equal number of electrons from the other (posi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5832360" y="2441520"/>
            <a:ext cx="2876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apacitor is fully charg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flow in the circuit s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plates have equal but opposite amount of charge o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the plates equals the supply vol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ctric field exists between the plates. The strength of this field is given by: E=V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Law: The total current entering a junction in a circuit equals the total current lea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066680" y="3581280"/>
            <a:ext cx="5029200" cy="2057400"/>
            <a:chOff x="1066680" y="3581280"/>
            <a:chExt cx="5029200" cy="2057400"/>
          </a:xfrm>
        </p:grpSpPr>
        <p:sp>
          <p:nvSpPr>
            <p:cNvPr id="519" name=""/>
            <p:cNvSpPr/>
            <p:nvPr/>
          </p:nvSpPr>
          <p:spPr>
            <a:xfrm>
              <a:off x="1066680" y="3733560"/>
              <a:ext cx="50292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429000" y="3733560"/>
              <a:ext cx="0" cy="19051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6360" y="464796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400000">
              <a:off x="2018880" y="36190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5400000">
              <a:off x="4304880" y="36190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76160" y="39621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472428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0760" y="396216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4724280"/>
                <a:ext cx="4038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03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a capacitor is a measure of how much charge it can store per volt applied across the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 for capacitance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rad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F=1C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ost capacitors are much less than 1F in size, it’s a big uni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5511960" y="1843200"/>
                <a:ext cx="30398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ance of a capacitor depends on 3 th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ea of the plates which overlap (C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ie. The more area overlapping, the bigger the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separating the plates (C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1/d ie. The closer the plates the bigger the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as the dielectric materi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403848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summed up in the capacitor construction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505400" y="865080"/>
                <a:ext cx="3981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216000" y="3013200"/>
            <a:ext cx="58514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rea of overlapping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Distance separating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Absolute permittivity of f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ce (!!) – A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8.8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Dielectric constant (no unit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’s a fa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6326280" y="3544920"/>
          <a:ext cx="2511360" cy="2278080"/>
        </p:xfrm>
        <a:graphic>
          <a:graphicData uri="http://schemas.openxmlformats.org/drawingml/2006/table">
            <a:tbl>
              <a:tblPr/>
              <a:tblGrid>
                <a:gridCol w="1871640"/>
                <a:gridCol w="63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iled pa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styre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6" name=""/>
          <p:cNvSpPr/>
          <p:nvPr/>
        </p:nvSpPr>
        <p:spPr>
          <a:xfrm flipV="1">
            <a:off x="4324320" y="4776840"/>
            <a:ext cx="1916280" cy="58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0280" y="1368000"/>
            <a:ext cx="403848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switch is closed, charge begins to build up on the 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process continues until the cap has the same voltage across it as the power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024520" y="1883880"/>
            <a:ext cx="3180600" cy="3611160"/>
            <a:chOff x="5024520" y="1883880"/>
            <a:chExt cx="3180600" cy="3611160"/>
          </a:xfrm>
        </p:grpSpPr>
        <p:grpSp>
          <p:nvGrpSpPr>
            <p:cNvPr id="940" name=""/>
            <p:cNvGrpSpPr/>
            <p:nvPr/>
          </p:nvGrpSpPr>
          <p:grpSpPr>
            <a:xfrm>
              <a:off x="5035320" y="3651120"/>
              <a:ext cx="1279080" cy="254520"/>
              <a:chOff x="5035320" y="3651120"/>
              <a:chExt cx="1279080" cy="254520"/>
            </a:xfrm>
          </p:grpSpPr>
          <p:sp>
            <p:nvSpPr>
              <p:cNvPr id="941" name=""/>
              <p:cNvSpPr/>
              <p:nvPr/>
            </p:nvSpPr>
            <p:spPr>
              <a:xfrm>
                <a:off x="5035320" y="3905640"/>
                <a:ext cx="127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290920" y="3651120"/>
                <a:ext cx="639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7229880" y="3506040"/>
              <a:ext cx="975240" cy="401760"/>
              <a:chOff x="7229880" y="3506040"/>
              <a:chExt cx="975240" cy="401760"/>
            </a:xfrm>
          </p:grpSpPr>
          <p:sp>
            <p:nvSpPr>
              <p:cNvPr id="944" name=""/>
              <p:cNvSpPr/>
              <p:nvPr/>
            </p:nvSpPr>
            <p:spPr>
              <a:xfrm>
                <a:off x="7229880" y="3506040"/>
                <a:ext cx="97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9880" y="3907800"/>
                <a:ext cx="97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 flipV="1">
              <a:off x="7732800" y="3903480"/>
              <a:ext cx="0" cy="159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18040" y="2202480"/>
              <a:ext cx="19440" cy="130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149440" y="4139280"/>
              <a:ext cx="325080" cy="357840"/>
              <a:chOff x="5149440" y="4139280"/>
              <a:chExt cx="325080" cy="357840"/>
            </a:xfrm>
          </p:grpSpPr>
          <p:sp>
            <p:nvSpPr>
              <p:cNvPr id="949" name=""/>
              <p:cNvSpPr/>
              <p:nvPr/>
            </p:nvSpPr>
            <p:spPr>
              <a:xfrm>
                <a:off x="5293080" y="4139280"/>
                <a:ext cx="0" cy="35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49440" y="4300920"/>
                <a:ext cx="32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024520" y="3378600"/>
              <a:ext cx="37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90520" y="2186640"/>
              <a:ext cx="0" cy="144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90520" y="2187000"/>
              <a:ext cx="6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72520" y="3921840"/>
              <a:ext cx="0" cy="155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94840" y="5492880"/>
              <a:ext cx="203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932520" y="2205000"/>
              <a:ext cx="76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328080" y="1883880"/>
              <a:ext cx="52272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75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’s easy at first because the plates are empty, but as they fill the stored charge starts to repel further charge and the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368960" y="1798560"/>
            <a:ext cx="7546320" cy="6154200"/>
            <a:chOff x="4368960" y="1798560"/>
            <a:chExt cx="7546320" cy="6154200"/>
          </a:xfrm>
        </p:grpSpPr>
        <p:sp>
          <p:nvSpPr>
            <p:cNvPr id="961" name=""/>
            <p:cNvSpPr/>
            <p:nvPr/>
          </p:nvSpPr>
          <p:spPr>
            <a:xfrm flipH="1" flipV="1" rot="5400000">
              <a:off x="5790600" y="1828440"/>
              <a:ext cx="531144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35960" y="5311440"/>
              <a:ext cx="355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950000" y="2204280"/>
              <a:ext cx="0" cy="309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80240" y="256824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7720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867800" y="52830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68960" y="2422440"/>
              <a:ext cx="15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87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s the rate of charge movement decreases, the current flow in the circuit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368960" y="-70920"/>
            <a:ext cx="7560000" cy="5753160"/>
            <a:chOff x="4368960" y="-70920"/>
            <a:chExt cx="7560000" cy="5753160"/>
          </a:xfrm>
        </p:grpSpPr>
        <p:sp>
          <p:nvSpPr>
            <p:cNvPr id="971" name=""/>
            <p:cNvSpPr/>
            <p:nvPr/>
          </p:nvSpPr>
          <p:spPr>
            <a:xfrm flipH="1" rot="16200000">
              <a:off x="5804640" y="-883800"/>
              <a:ext cx="531072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35600" y="53118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4950000" y="2205000"/>
              <a:ext cx="0" cy="309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79880" y="25686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7684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67800" y="52833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68960" y="24224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Dis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9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voltage will be at a max to begin with but will drop to zero as charge leaves the pl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498920" y="-84600"/>
            <a:ext cx="7560000" cy="5752440"/>
            <a:chOff x="4498920" y="-84600"/>
            <a:chExt cx="7560000" cy="5752440"/>
          </a:xfrm>
        </p:grpSpPr>
        <p:sp>
          <p:nvSpPr>
            <p:cNvPr id="981" name=""/>
            <p:cNvSpPr/>
            <p:nvPr/>
          </p:nvSpPr>
          <p:spPr>
            <a:xfrm flipH="1" rot="16200000">
              <a:off x="5934960" y="-897840"/>
              <a:ext cx="531000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5560" y="52974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079960" y="2190240"/>
              <a:ext cx="0" cy="309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9840" y="25542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06800" y="17845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7760" y="52689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98920" y="24080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Dis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17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current will be large at first, but decrease as potential left to “push”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368960" y="-70920"/>
            <a:ext cx="7560000" cy="5753160"/>
            <a:chOff x="4368960" y="-70920"/>
            <a:chExt cx="7560000" cy="5753160"/>
          </a:xfrm>
        </p:grpSpPr>
        <p:sp>
          <p:nvSpPr>
            <p:cNvPr id="991" name=""/>
            <p:cNvSpPr/>
            <p:nvPr/>
          </p:nvSpPr>
          <p:spPr>
            <a:xfrm flipH="1" rot="16200000">
              <a:off x="5804640" y="-883800"/>
              <a:ext cx="531072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935600" y="53118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4950000" y="2205000"/>
              <a:ext cx="0" cy="309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79880" y="25686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7684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867800" y="52833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68960" y="24224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e/Discharge Ra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rate that a cap will charge or discharge depends on two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size of the capacitor. The bigger the cap, the more charge it can store, so it will take longer to fill/emp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initial current in the circuit. This is determined by the resistance of the circuit. More R means smaller current, so longer to fill/emp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ime Consta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4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defined as the time it takes the voltage/current to rise to 63% of it’s max value or for it to drop 63% from it’s max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 is calculated using this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cap is considered fully charged or discharged after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ime 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251160" y="3708360"/>
                <a:ext cx="258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Law: The total of all the potential differences around a closed loop in a circuit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3200400"/>
            <a:ext cx="3809880" cy="2971800"/>
            <a:chOff x="609480" y="3200400"/>
            <a:chExt cx="3809880" cy="2971800"/>
          </a:xfrm>
        </p:grpSpPr>
        <p:grpSp>
          <p:nvGrpSpPr>
            <p:cNvPr id="531" name=""/>
            <p:cNvGrpSpPr/>
            <p:nvPr/>
          </p:nvGrpSpPr>
          <p:grpSpPr>
            <a:xfrm>
              <a:off x="1447560" y="4572000"/>
              <a:ext cx="761760" cy="152280"/>
              <a:chOff x="1447560" y="4572000"/>
              <a:chExt cx="761760" cy="152280"/>
            </a:xfrm>
          </p:grpSpPr>
          <p:sp>
            <p:nvSpPr>
              <p:cNvPr id="532" name=""/>
              <p:cNvSpPr/>
              <p:nvPr/>
            </p:nvSpPr>
            <p:spPr>
              <a:xfrm>
                <a:off x="1447560" y="4724280"/>
                <a:ext cx="761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99840" y="457200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16200000">
              <a:off x="2704680" y="3847680"/>
              <a:ext cx="838080" cy="304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2666520" y="5181120"/>
              <a:ext cx="914400" cy="304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09480" y="4419360"/>
              <a:ext cx="533160" cy="533160"/>
              <a:chOff x="609480" y="4419360"/>
              <a:chExt cx="533160" cy="533160"/>
            </a:xfrm>
          </p:grpSpPr>
          <p:sp>
            <p:nvSpPr>
              <p:cNvPr id="537" name=""/>
              <p:cNvSpPr/>
              <p:nvPr/>
            </p:nvSpPr>
            <p:spPr>
              <a:xfrm>
                <a:off x="609480" y="441936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440" y="4495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809880" y="4952880"/>
              <a:ext cx="533160" cy="533160"/>
              <a:chOff x="3809880" y="4952880"/>
              <a:chExt cx="533160" cy="533160"/>
            </a:xfrm>
          </p:grpSpPr>
          <p:sp>
            <p:nvSpPr>
              <p:cNvPr id="540" name=""/>
              <p:cNvSpPr/>
              <p:nvPr/>
            </p:nvSpPr>
            <p:spPr>
              <a:xfrm>
                <a:off x="3809880" y="495288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85840" y="5028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809880" y="3733560"/>
              <a:ext cx="609480" cy="533160"/>
              <a:chOff x="3809880" y="3733560"/>
              <a:chExt cx="609480" cy="533160"/>
            </a:xfrm>
          </p:grpSpPr>
          <p:sp>
            <p:nvSpPr>
              <p:cNvPr id="543" name=""/>
              <p:cNvSpPr/>
              <p:nvPr/>
            </p:nvSpPr>
            <p:spPr>
              <a:xfrm>
                <a:off x="3809880" y="373356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885840" y="380952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1828440" y="4724280"/>
              <a:ext cx="1295640" cy="144792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0"/>
                  </a:moveTo>
                  <a:lnTo>
                    <a:pt x="0" y="912"/>
                  </a:lnTo>
                  <a:lnTo>
                    <a:pt x="816" y="91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8440" y="3200400"/>
              <a:ext cx="1295640" cy="1371600"/>
            </a:xfrm>
            <a:custGeom>
              <a:avLst/>
              <a:gdLst/>
              <a:ahLst/>
              <a:rect l="l" t="t" r="r" b="b"/>
              <a:pathLst>
                <a:path w="816" h="864">
                  <a:moveTo>
                    <a:pt x="0" y="86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24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44193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495288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3886200"/>
              <a:ext cx="99036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4080" y="335268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576" y="240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42670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0"/>
                  </a:moveTo>
                  <a:lnTo>
                    <a:pt x="576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4080" y="472428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24080" y="548640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576" y="0"/>
                  </a:moveTo>
                  <a:lnTo>
                    <a:pt x="576" y="28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724280" y="3505320"/>
                <a:ext cx="40388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 in S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ing capacitors in s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2030400" y="3517920"/>
            <a:ext cx="490680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4713120" y="1498680"/>
                <a:ext cx="328644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554040" y="190080"/>
            <a:ext cx="403848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each cap is the s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each cap adds to the supply voltage V=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5327640" y="439560"/>
                <a:ext cx="3281400" cy="600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503280" y="3533760"/>
            <a:ext cx="3809880" cy="2971800"/>
            <a:chOff x="503280" y="3533760"/>
            <a:chExt cx="3809880" cy="2971800"/>
          </a:xfrm>
        </p:grpSpPr>
        <p:grpSp>
          <p:nvGrpSpPr>
            <p:cNvPr id="1010" name=""/>
            <p:cNvGrpSpPr/>
            <p:nvPr/>
          </p:nvGrpSpPr>
          <p:grpSpPr>
            <a:xfrm>
              <a:off x="1341360" y="4905360"/>
              <a:ext cx="761760" cy="152280"/>
              <a:chOff x="1341360" y="4905360"/>
              <a:chExt cx="761760" cy="152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1341360" y="5057640"/>
                <a:ext cx="761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93640" y="49053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03280" y="4752720"/>
              <a:ext cx="533160" cy="533160"/>
              <a:chOff x="503280" y="4752720"/>
              <a:chExt cx="533160" cy="533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503280" y="475272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79240" y="4828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703680" y="5286240"/>
              <a:ext cx="533160" cy="533160"/>
              <a:chOff x="3703680" y="5286240"/>
              <a:chExt cx="533160" cy="533160"/>
            </a:xfrm>
          </p:grpSpPr>
          <p:sp>
            <p:nvSpPr>
              <p:cNvPr id="1017" name=""/>
              <p:cNvSpPr/>
              <p:nvPr/>
            </p:nvSpPr>
            <p:spPr>
              <a:xfrm>
                <a:off x="3703680" y="528624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79640" y="53622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3703680" y="4066920"/>
              <a:ext cx="609480" cy="533160"/>
              <a:chOff x="3703680" y="4066920"/>
              <a:chExt cx="609480" cy="533160"/>
            </a:xfrm>
          </p:grpSpPr>
          <p:sp>
            <p:nvSpPr>
              <p:cNvPr id="1020" name=""/>
              <p:cNvSpPr/>
              <p:nvPr/>
            </p:nvSpPr>
            <p:spPr>
              <a:xfrm>
                <a:off x="3703680" y="406692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779640" y="41428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1722600" y="5057640"/>
              <a:ext cx="1295280" cy="144792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0"/>
                  </a:moveTo>
                  <a:lnTo>
                    <a:pt x="0" y="912"/>
                  </a:lnTo>
                  <a:lnTo>
                    <a:pt x="816" y="91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722600" y="3533760"/>
              <a:ext cx="1295280" cy="1371600"/>
            </a:xfrm>
            <a:custGeom>
              <a:avLst/>
              <a:gdLst/>
              <a:ahLst/>
              <a:rect l="l" t="t" r="r" b="b"/>
              <a:pathLst>
                <a:path w="816" h="864">
                  <a:moveTo>
                    <a:pt x="0" y="86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24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017880" y="4387680"/>
              <a:ext cx="11160" cy="11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31880" y="528624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1880" y="4219560"/>
              <a:ext cx="99072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17880" y="368604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576" y="240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7880" y="460044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0"/>
                  </a:moveTo>
                  <a:lnTo>
                    <a:pt x="576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17880" y="505764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17880" y="581976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576" y="0"/>
                  </a:moveTo>
                  <a:lnTo>
                    <a:pt x="576" y="28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2733840" y="4141800"/>
              <a:ext cx="581040" cy="239760"/>
              <a:chOff x="2733840" y="4141800"/>
              <a:chExt cx="581040" cy="239760"/>
            </a:xfrm>
          </p:grpSpPr>
          <p:sp>
            <p:nvSpPr>
              <p:cNvPr id="1032" name=""/>
              <p:cNvSpPr/>
              <p:nvPr/>
            </p:nvSpPr>
            <p:spPr>
              <a:xfrm>
                <a:off x="2733840" y="414180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733840" y="438156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2735280" y="5521320"/>
              <a:ext cx="581040" cy="239760"/>
              <a:chOff x="2735280" y="5521320"/>
              <a:chExt cx="581040" cy="239760"/>
            </a:xfrm>
          </p:grpSpPr>
          <p:sp>
            <p:nvSpPr>
              <p:cNvPr id="1035" name=""/>
              <p:cNvSpPr/>
              <p:nvPr/>
            </p:nvSpPr>
            <p:spPr>
              <a:xfrm>
                <a:off x="2735280" y="552132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735280" y="576108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 flipV="1">
              <a:off x="3013200" y="5754600"/>
              <a:ext cx="0" cy="35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13200" y="3903480"/>
              <a:ext cx="0" cy="23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1409760" y="5195880"/>
              <a:ext cx="193680" cy="214200"/>
              <a:chOff x="1409760" y="5195880"/>
              <a:chExt cx="193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1495440" y="5195880"/>
                <a:ext cx="0" cy="2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09760" y="5292720"/>
                <a:ext cx="193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1335240" y="474336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28920" y="5689440"/>
              <a:ext cx="6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44760" y="4357440"/>
              <a:ext cx="6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86160" y="5162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98760" y="3767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 Networ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ing capacitors in parall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1762200" y="3006720"/>
            <a:ext cx="5402160" cy="288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4788000" y="1733400"/>
                <a:ext cx="3286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14000" y="426960"/>
            <a:ext cx="5297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each cap is the same as the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tal charge stored is the sum of the charge in each cap. Q=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5965920" y="282600"/>
                <a:ext cx="2628720" cy="47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503280" y="3614760"/>
            <a:ext cx="4545360" cy="2388600"/>
            <a:chOff x="503280" y="3614760"/>
            <a:chExt cx="4545360" cy="2388600"/>
          </a:xfrm>
        </p:grpSpPr>
        <p:grpSp>
          <p:nvGrpSpPr>
            <p:cNvPr id="1054" name=""/>
            <p:cNvGrpSpPr/>
            <p:nvPr/>
          </p:nvGrpSpPr>
          <p:grpSpPr>
            <a:xfrm>
              <a:off x="1519200" y="4671360"/>
              <a:ext cx="923400" cy="183960"/>
              <a:chOff x="1519200" y="4671360"/>
              <a:chExt cx="923400" cy="1839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519200" y="4855320"/>
                <a:ext cx="923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703520" y="4671360"/>
                <a:ext cx="461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503280" y="4486680"/>
              <a:ext cx="646200" cy="645840"/>
              <a:chOff x="503280" y="4486680"/>
              <a:chExt cx="646200" cy="645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503280" y="4486680"/>
                <a:ext cx="646200" cy="64584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95080" y="4578480"/>
                <a:ext cx="55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780120" y="5133240"/>
              <a:ext cx="1200960" cy="5544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0120" y="3839760"/>
              <a:ext cx="1200960" cy="64692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3103200" y="4567680"/>
              <a:ext cx="703800" cy="290160"/>
              <a:chOff x="3103200" y="4567680"/>
              <a:chExt cx="703800" cy="290160"/>
            </a:xfrm>
          </p:grpSpPr>
          <p:sp>
            <p:nvSpPr>
              <p:cNvPr id="1063" name=""/>
              <p:cNvSpPr/>
              <p:nvPr/>
            </p:nvSpPr>
            <p:spPr>
              <a:xfrm>
                <a:off x="3103200" y="456768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3200" y="485784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4344840" y="4557960"/>
              <a:ext cx="703800" cy="290160"/>
              <a:chOff x="4344840" y="4557960"/>
              <a:chExt cx="703800" cy="290160"/>
            </a:xfrm>
          </p:grpSpPr>
          <p:sp>
            <p:nvSpPr>
              <p:cNvPr id="1066" name=""/>
              <p:cNvSpPr/>
              <p:nvPr/>
            </p:nvSpPr>
            <p:spPr>
              <a:xfrm>
                <a:off x="4344840" y="455796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344840" y="484812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 flipV="1">
              <a:off x="3467160" y="4854240"/>
              <a:ext cx="0" cy="11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55280" y="3626280"/>
              <a:ext cx="13320" cy="94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1602000" y="5023800"/>
              <a:ext cx="234360" cy="259200"/>
              <a:chOff x="1602000" y="5023800"/>
              <a:chExt cx="234360" cy="259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1705680" y="5023800"/>
                <a:ext cx="0" cy="25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602000" y="5140800"/>
                <a:ext cx="23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1511640" y="4475160"/>
              <a:ext cx="272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09680" y="4890960"/>
              <a:ext cx="78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41840" y="4902480"/>
              <a:ext cx="61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992960" y="3614760"/>
              <a:ext cx="0" cy="10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92960" y="3614760"/>
              <a:ext cx="267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56600" y="3616920"/>
              <a:ext cx="13320" cy="94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4867920"/>
              <a:ext cx="0" cy="111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65600" y="5988240"/>
              <a:ext cx="268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4654800" y="4842720"/>
              <a:ext cx="0" cy="114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549440" y="6216480"/>
            <a:ext cx="58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B. This is the opposite way round to resist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0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ors store energy as electric potential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they store is half of the energy supplied by the battery. (The other half is dissipated as heat in the resistance of the circu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apacitor discharges, the energy is dissipated in the resistance of the circuit as heat, ligh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ell: Each coulomb of charge gains V Joules of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energy provided by the cell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=V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581360" y="1740960"/>
            <a:ext cx="4101120" cy="3556080"/>
            <a:chOff x="4581360" y="1740960"/>
            <a:chExt cx="4101120" cy="3556080"/>
          </a:xfrm>
        </p:grpSpPr>
        <p:grpSp>
          <p:nvGrpSpPr>
            <p:cNvPr id="1088" name=""/>
            <p:cNvGrpSpPr/>
            <p:nvPr/>
          </p:nvGrpSpPr>
          <p:grpSpPr>
            <a:xfrm>
              <a:off x="4581360" y="1740960"/>
              <a:ext cx="4101120" cy="3556080"/>
              <a:chOff x="4581360" y="1740960"/>
              <a:chExt cx="4101120" cy="3556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4988880" y="4939920"/>
                <a:ext cx="3369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988880" y="1740960"/>
                <a:ext cx="0" cy="319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81360" y="1865520"/>
                <a:ext cx="59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79960" y="4898160"/>
                <a:ext cx="902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4976640" y="2641680"/>
              <a:ext cx="3130200" cy="229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271840" y="3107520"/>
              <a:ext cx="2423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= are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V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149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apacitor: voltage increases gradually as cap charges until it equals the cell vol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energy stored by the capacitor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=1/2V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4660920" y="1666800"/>
            <a:ext cx="4084200" cy="3470400"/>
            <a:chOff x="4660920" y="1666800"/>
            <a:chExt cx="4084200" cy="3470400"/>
          </a:xfrm>
        </p:grpSpPr>
        <p:grpSp>
          <p:nvGrpSpPr>
            <p:cNvPr id="1098" name=""/>
            <p:cNvGrpSpPr/>
            <p:nvPr/>
          </p:nvGrpSpPr>
          <p:grpSpPr>
            <a:xfrm>
              <a:off x="4660920" y="1666800"/>
              <a:ext cx="3990240" cy="3470400"/>
              <a:chOff x="4660920" y="1666800"/>
              <a:chExt cx="3990240" cy="3470400"/>
            </a:xfrm>
          </p:grpSpPr>
          <p:sp>
            <p:nvSpPr>
              <p:cNvPr id="1099" name=""/>
              <p:cNvSpPr/>
              <p:nvPr/>
            </p:nvSpPr>
            <p:spPr>
              <a:xfrm>
                <a:off x="5057280" y="4778640"/>
                <a:ext cx="3278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057280" y="1666800"/>
                <a:ext cx="0" cy="311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60920" y="178776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73120" y="4738320"/>
                <a:ext cx="87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 flipH="1">
              <a:off x="5085000" y="2661840"/>
              <a:ext cx="2961000" cy="211068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056920" y="2664360"/>
              <a:ext cx="2961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40160" y="3763080"/>
              <a:ext cx="2604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= are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½ V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518472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arrangement and substitution puts this equation into a familiar for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f.  the formula for kinetic energy E=1/2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f.  the formula for elastic potential energy E=1/2k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6176880" y="1224000"/>
                <a:ext cx="2816280" cy="490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9" name=""/>
          <p:cNvSpPr/>
          <p:nvPr/>
        </p:nvSpPr>
        <p:spPr>
          <a:xfrm>
            <a:off x="5099040" y="2752560"/>
            <a:ext cx="1108080" cy="263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voltage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ing from + to – represents a loss of energy so potential difference is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ing from – to + represents a gain in energy so potential difference is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981080" y="4190760"/>
            <a:ext cx="4723920" cy="1981440"/>
            <a:chOff x="1981080" y="4190760"/>
            <a:chExt cx="4723920" cy="1981440"/>
          </a:xfrm>
        </p:grpSpPr>
        <p:grpSp>
          <p:nvGrpSpPr>
            <p:cNvPr id="558" name=""/>
            <p:cNvGrpSpPr/>
            <p:nvPr/>
          </p:nvGrpSpPr>
          <p:grpSpPr>
            <a:xfrm>
              <a:off x="1981080" y="4267080"/>
              <a:ext cx="2057400" cy="1905120"/>
              <a:chOff x="1981080" y="4267080"/>
              <a:chExt cx="2057400" cy="19051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3048120" y="4267080"/>
                <a:ext cx="990360" cy="1905120"/>
                <a:chOff x="3048120" y="4267080"/>
                <a:chExt cx="990360" cy="190512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3048120" y="4724280"/>
                  <a:ext cx="990360" cy="1143000"/>
                  <a:chOff x="3048120" y="4724280"/>
                  <a:chExt cx="990360" cy="114300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3048120" y="4724280"/>
                    <a:ext cx="990360" cy="228600"/>
                    <a:chOff x="3048120" y="4724280"/>
                    <a:chExt cx="990360" cy="2286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048120" y="47242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3276360" y="49528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048120" y="5181480"/>
                    <a:ext cx="990360" cy="228600"/>
                    <a:chOff x="3048120" y="5181480"/>
                    <a:chExt cx="990360" cy="22860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048120" y="51814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3276360" y="54100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048120" y="5638680"/>
                    <a:ext cx="990360" cy="228600"/>
                    <a:chOff x="3048120" y="5638680"/>
                    <a:chExt cx="990360" cy="2286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048120" y="56386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276360" y="58672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0" name=""/>
                <p:cNvSpPr/>
                <p:nvPr/>
              </p:nvSpPr>
              <p:spPr>
                <a:xfrm flipV="1">
                  <a:off x="3581280" y="426708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581280" y="58672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 flipV="1">
                <a:off x="2819520" y="4572000"/>
                <a:ext cx="0" cy="12952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810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+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952880" y="4190760"/>
              <a:ext cx="1752120" cy="1904760"/>
              <a:chOff x="4952880" y="4190760"/>
              <a:chExt cx="1752120" cy="19047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5714640" y="4190760"/>
                <a:ext cx="990360" cy="1904760"/>
                <a:chOff x="5714640" y="4190760"/>
                <a:chExt cx="990360" cy="19047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5714640" y="4647960"/>
                  <a:ext cx="990360" cy="1142280"/>
                  <a:chOff x="5714640" y="4647960"/>
                  <a:chExt cx="990360" cy="114228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714640" y="4647960"/>
                    <a:ext cx="990360" cy="228240"/>
                    <a:chOff x="5714640" y="4647960"/>
                    <a:chExt cx="990360" cy="22824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714640" y="464796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942880" y="487620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714640" y="5104800"/>
                    <a:ext cx="990360" cy="228240"/>
                    <a:chOff x="5714640" y="5104800"/>
                    <a:chExt cx="990360" cy="22824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714640" y="510480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942880" y="533304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714640" y="5562000"/>
                    <a:ext cx="990360" cy="228240"/>
                    <a:chOff x="5714640" y="5562000"/>
                    <a:chExt cx="990360" cy="2282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714640" y="556200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942880" y="579024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6" name=""/>
                <p:cNvSpPr/>
                <p:nvPr/>
              </p:nvSpPr>
              <p:spPr>
                <a:xfrm flipV="1">
                  <a:off x="6247800" y="4190760"/>
                  <a:ext cx="0" cy="456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247800" y="5790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5562360" y="4647960"/>
                <a:ext cx="0" cy="12952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52880" y="4876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-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sis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in the same direction as the current represents a loss of energy -V=-(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in the opposite direction to the current represents a gain in energy +V=+(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506600" y="4190760"/>
            <a:ext cx="5281560" cy="2060640"/>
            <a:chOff x="1506600" y="4190760"/>
            <a:chExt cx="5281560" cy="2060640"/>
          </a:xfrm>
        </p:grpSpPr>
        <p:grpSp>
          <p:nvGrpSpPr>
            <p:cNvPr id="593" name=""/>
            <p:cNvGrpSpPr/>
            <p:nvPr/>
          </p:nvGrpSpPr>
          <p:grpSpPr>
            <a:xfrm>
              <a:off x="2743200" y="4190760"/>
              <a:ext cx="698400" cy="2005200"/>
              <a:chOff x="2743200" y="4190760"/>
              <a:chExt cx="698400" cy="2005200"/>
            </a:xfrm>
          </p:grpSpPr>
          <p:sp>
            <p:nvSpPr>
              <p:cNvPr id="594" name=""/>
              <p:cNvSpPr/>
              <p:nvPr/>
            </p:nvSpPr>
            <p:spPr>
              <a:xfrm>
                <a:off x="2743200" y="4800600"/>
                <a:ext cx="380880" cy="9144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2940120" y="41907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68560" y="5722920"/>
                <a:ext cx="0" cy="47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03400" y="5873760"/>
                <a:ext cx="119160" cy="14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76560" y="58086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089760" y="4246200"/>
              <a:ext cx="698400" cy="2005200"/>
              <a:chOff x="6089760" y="4246200"/>
              <a:chExt cx="698400" cy="2005200"/>
            </a:xfrm>
          </p:grpSpPr>
          <p:sp>
            <p:nvSpPr>
              <p:cNvPr id="600" name=""/>
              <p:cNvSpPr/>
              <p:nvPr/>
            </p:nvSpPr>
            <p:spPr>
              <a:xfrm>
                <a:off x="6089760" y="4856040"/>
                <a:ext cx="380880" cy="9144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286680" y="4246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315120" y="5778360"/>
                <a:ext cx="0" cy="47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5929200"/>
                <a:ext cx="119160" cy="14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3120" y="586404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463840" y="4594320"/>
              <a:ext cx="0" cy="141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821200" y="4672080"/>
              <a:ext cx="0" cy="141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6600" y="5056200"/>
              <a:ext cx="9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V=+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0800" y="506880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V=-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9160" y="1386000"/>
            <a:ext cx="427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olve problems, follow a loop around a circui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6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-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8V (2Ax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V (3Ax1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–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add up the p.d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V+6V-8V+3V-V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=1V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224920" y="248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936680" y="1527120"/>
            <a:ext cx="4056480" cy="4692240"/>
            <a:chOff x="4936680" y="1527120"/>
            <a:chExt cx="4056480" cy="4692240"/>
          </a:xfrm>
        </p:grpSpPr>
        <p:grpSp>
          <p:nvGrpSpPr>
            <p:cNvPr id="613" name=""/>
            <p:cNvGrpSpPr/>
            <p:nvPr/>
          </p:nvGrpSpPr>
          <p:grpSpPr>
            <a:xfrm>
              <a:off x="4936680" y="1527120"/>
              <a:ext cx="4011840" cy="4692240"/>
              <a:chOff x="4936680" y="1527120"/>
              <a:chExt cx="4011840" cy="469224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936680" y="2070720"/>
                <a:ext cx="3999600" cy="3900960"/>
                <a:chOff x="4936680" y="2070720"/>
                <a:chExt cx="3999600" cy="390096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7989840" y="3688920"/>
                  <a:ext cx="946440" cy="179280"/>
                  <a:chOff x="7989840" y="3688920"/>
                  <a:chExt cx="946440" cy="1792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7989840" y="3868200"/>
                    <a:ext cx="94644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8201880" y="3688920"/>
                    <a:ext cx="51264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936680" y="2070720"/>
                  <a:ext cx="3564360" cy="3900960"/>
                  <a:chOff x="4936680" y="2070720"/>
                  <a:chExt cx="3564360" cy="39009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5517360" y="3832920"/>
                    <a:ext cx="510840" cy="1122480"/>
                  </a:xfrm>
                  <a:prstGeom prst="rect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496920" y="5463720"/>
                    <a:ext cx="1581120" cy="507960"/>
                  </a:xfrm>
                  <a:prstGeom prst="rect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262480" y="2858400"/>
                    <a:ext cx="946440" cy="179280"/>
                    <a:chOff x="5262480" y="2858400"/>
                    <a:chExt cx="946440" cy="1792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262480" y="3037680"/>
                      <a:ext cx="9464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5474520" y="2858400"/>
                      <a:ext cx="5126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"/>
                  <p:cNvSpPr/>
                  <p:nvPr/>
                </p:nvSpPr>
                <p:spPr>
                  <a:xfrm>
                    <a:off x="8491320" y="3868560"/>
                    <a:ext cx="0" cy="1847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8068320" y="5716800"/>
                    <a:ext cx="422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4936680" y="5729400"/>
                    <a:ext cx="1548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5783400" y="4945320"/>
                    <a:ext cx="0" cy="78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V="1">
                    <a:off x="5762160" y="3036240"/>
                    <a:ext cx="0" cy="78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5762160" y="2093040"/>
                    <a:ext cx="0" cy="748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960080" y="2070720"/>
                    <a:ext cx="3529440" cy="1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501040" y="2081160"/>
                    <a:ext cx="0" cy="159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2" name=""/>
              <p:cNvSpPr/>
              <p:nvPr/>
            </p:nvSpPr>
            <p:spPr>
              <a:xfrm>
                <a:off x="6229080" y="2674800"/>
                <a:ext cx="63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5400000">
                <a:off x="5243760" y="198216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686560" y="2337120"/>
                <a:ext cx="1656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8407800" y="4693680"/>
                <a:ext cx="16596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8419320" y="2593800"/>
                <a:ext cx="1656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6200000">
                <a:off x="6087600" y="563760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5400000">
                <a:off x="6815520" y="198396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699880" y="5142600"/>
                <a:ext cx="16596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200000">
                <a:off x="5298120" y="5639400"/>
                <a:ext cx="18000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22760" y="3484080"/>
                <a:ext cx="77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21280" y="5451840"/>
                <a:ext cx="96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48240" y="412200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17880" y="1527120"/>
                <a:ext cx="73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358480" y="1527120"/>
                <a:ext cx="56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302680" y="5851080"/>
                <a:ext cx="64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06280" y="5851080"/>
                <a:ext cx="65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7939080" y="248436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05240" y="50547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0320" y="1008000"/>
            <a:ext cx="46846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0.75A x 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-3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-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2 = -2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-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5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: -3 -2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1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current la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A = 0.75A +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.2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667400" y="1473120"/>
            <a:ext cx="4476240" cy="4591440"/>
            <a:chOff x="4667400" y="1473120"/>
            <a:chExt cx="4476240" cy="4591440"/>
          </a:xfrm>
        </p:grpSpPr>
        <p:grpSp>
          <p:nvGrpSpPr>
            <p:cNvPr id="653" name=""/>
            <p:cNvGrpSpPr/>
            <p:nvPr/>
          </p:nvGrpSpPr>
          <p:grpSpPr>
            <a:xfrm>
              <a:off x="6134040" y="1627920"/>
              <a:ext cx="165600" cy="583560"/>
              <a:chOff x="6134040" y="1627920"/>
              <a:chExt cx="165600" cy="583560"/>
            </a:xfrm>
          </p:grpSpPr>
          <p:sp>
            <p:nvSpPr>
              <p:cNvPr id="654" name=""/>
              <p:cNvSpPr/>
              <p:nvPr/>
            </p:nvSpPr>
            <p:spPr>
              <a:xfrm>
                <a:off x="6134040" y="162792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99640" y="179604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6499440" y="1616760"/>
              <a:ext cx="166320" cy="583560"/>
              <a:chOff x="6499440" y="1616760"/>
              <a:chExt cx="166320" cy="583560"/>
            </a:xfrm>
          </p:grpSpPr>
          <p:sp>
            <p:nvSpPr>
              <p:cNvPr id="657" name=""/>
              <p:cNvSpPr/>
              <p:nvPr/>
            </p:nvSpPr>
            <p:spPr>
              <a:xfrm>
                <a:off x="6499440" y="16167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665760" y="17848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796440" y="5380200"/>
              <a:ext cx="165600" cy="583560"/>
              <a:chOff x="6796440" y="5380200"/>
              <a:chExt cx="165600" cy="583560"/>
            </a:xfrm>
          </p:grpSpPr>
          <p:sp>
            <p:nvSpPr>
              <p:cNvPr id="660" name=""/>
              <p:cNvSpPr/>
              <p:nvPr/>
            </p:nvSpPr>
            <p:spPr>
              <a:xfrm>
                <a:off x="6796440" y="538020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62040" y="554832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424920" y="5384160"/>
              <a:ext cx="166320" cy="583560"/>
              <a:chOff x="6424920" y="5384160"/>
              <a:chExt cx="166320" cy="583560"/>
            </a:xfrm>
          </p:grpSpPr>
          <p:sp>
            <p:nvSpPr>
              <p:cNvPr id="663" name=""/>
              <p:cNvSpPr/>
              <p:nvPr/>
            </p:nvSpPr>
            <p:spPr>
              <a:xfrm>
                <a:off x="6424920" y="53841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591240" y="55522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063120" y="5385960"/>
              <a:ext cx="165600" cy="583560"/>
              <a:chOff x="6063120" y="5385960"/>
              <a:chExt cx="165600" cy="583560"/>
            </a:xfrm>
          </p:grpSpPr>
          <p:sp>
            <p:nvSpPr>
              <p:cNvPr id="666" name=""/>
              <p:cNvSpPr/>
              <p:nvPr/>
            </p:nvSpPr>
            <p:spPr>
              <a:xfrm>
                <a:off x="6063120" y="53859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28720" y="55540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5392800" y="3524400"/>
              <a:ext cx="1530000" cy="4935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60920" y="2174040"/>
              <a:ext cx="50508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62720" y="4240440"/>
              <a:ext cx="50580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66120" y="1926720"/>
              <a:ext cx="182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13440" y="3759840"/>
              <a:ext cx="159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93720" y="5705640"/>
              <a:ext cx="1542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8508240" y="5548680"/>
              <a:ext cx="0" cy="168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506080" y="1911240"/>
              <a:ext cx="0" cy="27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8521560" y="3484080"/>
              <a:ext cx="0" cy="76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4640" y="1915560"/>
              <a:ext cx="26640" cy="37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32800" y="1928520"/>
              <a:ext cx="110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96440" y="5680800"/>
              <a:ext cx="1035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34960" y="3786840"/>
              <a:ext cx="33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5509440" y="180756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7561800" y="18115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5400000">
              <a:off x="5475240" y="556560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5400000">
              <a:off x="7706880" y="5594760"/>
              <a:ext cx="195120" cy="23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rot="5400000">
              <a:off x="7374240" y="36349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00000">
              <a:off x="4923720" y="261216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rot="10800000">
              <a:off x="4912200" y="456192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3440" y="354924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95760" y="25110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20600" y="461412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23680" y="22392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72200" y="4795920"/>
              <a:ext cx="8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3440" y="323676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7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48000" y="2418840"/>
              <a:ext cx="67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34320" y="4366800"/>
              <a:ext cx="80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0720" y="148428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67400" y="3472560"/>
              <a:ext cx="5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94560" y="34704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2760" y="147312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0360" y="561168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01240" y="5665680"/>
              <a:ext cx="6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-360" y="1244160"/>
            <a:ext cx="468468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0.75A x 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-3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-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0.25A x 8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+2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-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V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: -3V + 2V + V?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V = 1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667400" y="1473120"/>
            <a:ext cx="4476240" cy="4591440"/>
            <a:chOff x="4667400" y="1473120"/>
            <a:chExt cx="4476240" cy="4591440"/>
          </a:xfrm>
        </p:grpSpPr>
        <p:grpSp>
          <p:nvGrpSpPr>
            <p:cNvPr id="705" name=""/>
            <p:cNvGrpSpPr/>
            <p:nvPr/>
          </p:nvGrpSpPr>
          <p:grpSpPr>
            <a:xfrm>
              <a:off x="6134040" y="1627920"/>
              <a:ext cx="165600" cy="583560"/>
              <a:chOff x="6134040" y="1627920"/>
              <a:chExt cx="165600" cy="583560"/>
            </a:xfrm>
          </p:grpSpPr>
          <p:sp>
            <p:nvSpPr>
              <p:cNvPr id="706" name=""/>
              <p:cNvSpPr/>
              <p:nvPr/>
            </p:nvSpPr>
            <p:spPr>
              <a:xfrm>
                <a:off x="6134040" y="162792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99640" y="179604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499440" y="1616760"/>
              <a:ext cx="166320" cy="583560"/>
              <a:chOff x="6499440" y="1616760"/>
              <a:chExt cx="166320" cy="583560"/>
            </a:xfrm>
          </p:grpSpPr>
          <p:sp>
            <p:nvSpPr>
              <p:cNvPr id="709" name=""/>
              <p:cNvSpPr/>
              <p:nvPr/>
            </p:nvSpPr>
            <p:spPr>
              <a:xfrm>
                <a:off x="6499440" y="16167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65760" y="17848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6796440" y="5380200"/>
              <a:ext cx="165600" cy="583560"/>
              <a:chOff x="6796440" y="5380200"/>
              <a:chExt cx="165600" cy="583560"/>
            </a:xfrm>
          </p:grpSpPr>
          <p:sp>
            <p:nvSpPr>
              <p:cNvPr id="712" name=""/>
              <p:cNvSpPr/>
              <p:nvPr/>
            </p:nvSpPr>
            <p:spPr>
              <a:xfrm>
                <a:off x="6796440" y="538020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62040" y="554832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6424920" y="5384160"/>
              <a:ext cx="166320" cy="583560"/>
              <a:chOff x="6424920" y="5384160"/>
              <a:chExt cx="166320" cy="583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424920" y="53841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91240" y="55522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063120" y="5385960"/>
              <a:ext cx="165600" cy="583560"/>
              <a:chOff x="6063120" y="5385960"/>
              <a:chExt cx="165600" cy="58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063120" y="53859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228720" y="55540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5392800" y="3524400"/>
              <a:ext cx="1530000" cy="4935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60920" y="2174040"/>
              <a:ext cx="50508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262720" y="4240440"/>
              <a:ext cx="50580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66120" y="1926720"/>
              <a:ext cx="182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13440" y="3759840"/>
              <a:ext cx="159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93720" y="5705640"/>
              <a:ext cx="1542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508240" y="5548680"/>
              <a:ext cx="0" cy="168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506080" y="1911240"/>
              <a:ext cx="0" cy="27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521560" y="3484080"/>
              <a:ext cx="0" cy="76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994640" y="1915560"/>
              <a:ext cx="26640" cy="37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32800" y="1928520"/>
              <a:ext cx="110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96440" y="5680800"/>
              <a:ext cx="1035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34960" y="3786840"/>
              <a:ext cx="33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5509440" y="180756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7561800" y="18115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5400000">
              <a:off x="5475240" y="556560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rot="5400000">
              <a:off x="7706880" y="5594760"/>
              <a:ext cx="195120" cy="23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7374240" y="36349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10800000">
              <a:off x="4923720" y="261216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rot="10800000">
              <a:off x="4912200" y="456192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3440" y="354924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95760" y="25110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20600" y="461412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23680" y="22392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72200" y="4795920"/>
              <a:ext cx="8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3440" y="323676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7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48000" y="2418840"/>
              <a:ext cx="67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34320" y="4366800"/>
              <a:ext cx="80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70720" y="148428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67400" y="3472560"/>
              <a:ext cx="5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94560" y="34704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12760" y="147312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0360" y="561168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01240" y="5665680"/>
              <a:ext cx="6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onents have some resistance, including cells and 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(voltage) measured across a cell when no current is being drawn is called the E.M.F (electro-motive for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urrent flows, the voltage measured across the terminals of the cell will drop, because of the cell’s internal resist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01:22:42Z</dcterms:created>
  <dc:creator> Maree</dc:creator>
  <dc:description/>
  <dc:language>en-US</dc:language>
  <cp:lastModifiedBy>Administrator</cp:lastModifiedBy>
  <dcterms:modified xsi:type="dcterms:W3CDTF">2005-07-28T02:02:14Z</dcterms:modified>
  <cp:revision>17</cp:revision>
  <dc:subject/>
  <dc:title>Slide 1</dc:title>
</cp:coreProperties>
</file>